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1E4-B000-414E-8535-1C08BC1A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C1-6031-4DBD-8E57-C1A55FEC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CA6-DF22-4049-8798-CC6328B4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A0D-AA2F-43B4-A770-983A9D12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8E5-7BC7-4085-8A60-FAE534D2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292-1053-4892-BCED-A3AD2C8B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6A4-0F6C-4F5B-9549-59D1FBD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322-4988-44BB-BB04-9ABD0942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701-531D-47AF-BA24-B150C62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5C7-4D85-433C-8D83-F573B8A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32A-9460-404A-AE6A-556E989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AEB-105F-49CB-87F4-07D3070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1B2-7347-4136-8163-D9AF4C7E8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16000" y="1413000"/>
            <a:ext cx="74898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隶书"/>
              </a:rPr>
              <a:t>我爱少先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少儿简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年级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65105_000427387_2"/>
          <p:cNvPicPr/>
          <p:nvPr/>
        </p:nvPicPr>
        <p:blipFill>
          <a:blip r:embed="rId2"/>
          <a:stretch/>
        </p:blipFill>
        <p:spPr>
          <a:xfrm>
            <a:off x="8153280" y="189000"/>
            <a:ext cx="99072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(3)"/>
          <p:cNvPicPr/>
          <p:nvPr/>
        </p:nvPicPr>
        <p:blipFill>
          <a:blip r:embed="rId3"/>
          <a:stretch/>
        </p:blipFill>
        <p:spPr>
          <a:xfrm>
            <a:off x="0" y="2852640"/>
            <a:ext cx="218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00000" y="2060640"/>
            <a:ext cx="74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队旗上的五角星代表中国共产党的领导，火炬象征光明，红旗象征革命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780000" y="5516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34920" y="1989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建队日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196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065105_000427387_2"/>
          <p:cNvPicPr/>
          <p:nvPr/>
        </p:nvPicPr>
        <p:blipFill>
          <a:blip r:embed="rId2"/>
          <a:stretch/>
        </p:blipFill>
        <p:spPr>
          <a:xfrm>
            <a:off x="324000" y="260280"/>
            <a:ext cx="990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184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现在各种阅读资料丰富多彩，因此队报、队刊的订阅意义不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91636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2065105_000427387_2"/>
          <p:cNvPicPr/>
          <p:nvPr/>
        </p:nvPicPr>
        <p:blipFill>
          <a:blip r:embed="rId2"/>
          <a:stretch/>
        </p:blipFill>
        <p:spPr>
          <a:xfrm>
            <a:off x="468360" y="40464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4360" y="7650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2133720"/>
            <a:ext cx="76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入队仪式不可以与中队或大队的其他活动合并举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43280" y="501336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00000" y="14842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怎样为组织增光添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少先队队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09880" y="1509480"/>
            <a:ext cx="525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传统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鲜艳的红领巾飘扬在前胸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困难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顽强学习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坚决斗争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1328760"/>
            <a:ext cx="524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路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少先队员是我们骄傲的名称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时刻准备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建立功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要把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消灭干净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1640" y="1916280"/>
            <a:ext cx="38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队知识竞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484360" y="21337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必答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33336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我们队的创立者和领导者是（              ），党委托（                           ）直接领导我们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名是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旗是（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礼是（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代表（                                      ）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664080" y="23558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少年先锋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30800" y="379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865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主义青年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708360" y="37638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角星加火炬的红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51320" y="52689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手五指并拢，高举头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070000" y="598968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的利益高于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79280" y="0"/>
            <a:ext cx="8640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作风是（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呼号是：呼“准备着，为共产主义事业而奋斗！”回答：“（                             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标志是（              ），它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少年先锋队成立于（            ）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是建队（               ）周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984480" y="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实、勇敢、活泼、团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21360" y="201456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刻准备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65680" y="34354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领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39840" y="41720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旗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2132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084480" y="5649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260280"/>
            <a:ext cx="8820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大队由几个中队组成？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开始实施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守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（       ）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日常行为规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（       ）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组织对少年儿童的入队年龄要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 7-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员离队的年龄为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学毕业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92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00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77080" y="2060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75640" y="2840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84726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3640" y="2060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17002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活动哪些不属于队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访问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事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野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担任小交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加商场的开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76720" y="522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557360"/>
            <a:ext cx="7632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少先队干部标志以及红领巾，我们对队员的要求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时时、处处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重大节日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由各中队自行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76720" y="5589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06:55Z</dcterms:created>
  <dc:creator/>
  <dc:description/>
  <dc:language>en-US</dc:language>
  <cp:lastModifiedBy>cpzxsxz</cp:lastModifiedBy>
  <dcterms:modified xsi:type="dcterms:W3CDTF">2018-08-09T08:35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